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A6B-383A-4324-93FB-6247152C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431-A827-41B7-9CF8-92C6F1CF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0AA-8C34-4C75-B020-641D67DB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708-E380-4776-9786-77CA0546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D9E-775A-4617-8852-1D2C5072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E13-B40A-44DD-BE4A-747BC5C9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713-5807-4D66-B35B-192B070D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13F-54F3-4B8C-B4BF-DCB628B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31A-DF82-4200-A826-00C66F08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BAC-572A-41E8-8614-549DC6A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83E-2302-42BD-82ED-3A0A2401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F89-5209-4CD6-9246-BEEB1F2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2F9F-29C8-49D2-B85F-628B846C7EB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7 Nejedným úskalím nám treba prej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celkom blízko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slávny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ľúbená otči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miesto priprav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ľúbená otč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bývať budeme naveky t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nkom a chrámom k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bude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ovom pokojn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ane sa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ľúbená otčin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jedným úskal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treba prej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ceste do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trapy premnoh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usíme zni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na ceste do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šak len za Pánom pôjdeme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sa nebu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zkosťou chvie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úst našich radost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ev bude zn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na ceste do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sľúbil, že bu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nás vždy 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d nami stále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kúškach a súžen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áh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d nami stále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číha nepriat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všetkých st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ôže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íťazi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mi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ľahnime sa bez výhra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na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d nami stále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22:01Z</dcterms:modified>
  <cp:revision>23</cp:revision>
  <dc:subject/>
  <dc:title>Je veľký náš Pán, on slávy je Kráľ Nech do všetkých strán  spev vrúcnych znie chvál.</dc:title>
</cp:coreProperties>
</file>